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872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BE3-8012-47BF-975E-00B1EF1C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投影片編號版面配置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FE4-A58A-4E86-B47E-37E6120B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659-8A29-42C1-9EFA-CF63F70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462-94CE-47AD-925C-1C02D70C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05D-FE21-436C-BB80-03A9D7AB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8DC-ADAC-4C41-AB1D-F0E90176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F91-4F88-4828-A389-D72ED2B3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01D-057C-428B-A498-1976FF0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AA0-6C9A-41FD-8FCF-C072CF02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9B9-EA43-4C77-AA5C-AFE0CA35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215-F109-4DD2-863F-0EF2BC2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5A9-F853-4238-8E6B-2160F2A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CAB-6517-4A13-BC75-FCD970D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B78-DF29-471A-9C8C-830C0E7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20C-2F66-4387-8FF3-4937D1A713D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14520" y="1743120"/>
            <a:ext cx="431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廣達</a:t>
            </a:r>
            <a:r>
              <a:rPr b="1" lang="en-US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《</a:t>
            </a:r>
            <a:r>
              <a:rPr b="1" lang="zh-TW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游於藝</a:t>
            </a:r>
            <a:r>
              <a:rPr b="1" lang="en-US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》</a:t>
            </a:r>
            <a:r>
              <a:rPr b="1" lang="zh-TW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計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_____</a:t>
            </a:r>
            <a:r>
              <a:rPr b="1" lang="zh-TW" sz="36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盟結案報告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2484360" y="352440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◎ 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與年度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◎ 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展覽名稱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◎ 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單位名稱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◎ 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展覽日期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◎ </a:t>
            </a: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結案日期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施概述：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展單位基本資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413000"/>
          <a:ext cx="8209080" cy="3744720"/>
        </p:xfrm>
        <a:graphic>
          <a:graphicData uri="http://schemas.openxmlformats.org/drawingml/2006/table">
            <a:tbl>
              <a:tblPr/>
              <a:tblGrid>
                <a:gridCol w="2160720"/>
                <a:gridCol w="604836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單位名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○○</a:t>
                      </a:r>
                      <a:r>
                        <a:rPr b="0" lang="zh-TW" sz="1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縣○○市○○國民小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展覽時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~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9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單位總人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學校師生總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總參觀人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展覽期間總參觀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300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計畫相關校園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成果網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網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D2CF-1F82-442A-98DD-D228F69360EA}" type="slidenum">
              <a:rPr b="1" lang="en-US" sz="1200" spc="-1" strike="noStrike">
                <a:solidFill>
                  <a:srgbClr val="898989"/>
                </a:solidFill>
                <a:latin typeface="Lucida Sans"/>
              </a:rPr>
              <a:t>&lt;number&gt;</a:t>
            </a:fld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5280" y="1022400"/>
            <a:ext cx="705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照片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5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（每頁簡報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2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即可，不需拼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7"/>
          <p:cNvSpPr/>
          <p:nvPr/>
        </p:nvSpPr>
        <p:spPr>
          <a:xfrm>
            <a:off x="-36360" y="115920"/>
            <a:ext cx="6913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施概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佈展過程、開幕花絮及相關展場活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79280" y="1773360"/>
            <a:ext cx="8856720" cy="446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alibri"/>
              </a:rPr>
              <a:t>（請插入單位巡迴展具代表性照片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字方塊 2"/>
          <p:cNvSpPr/>
          <p:nvPr/>
        </p:nvSpPr>
        <p:spPr>
          <a:xfrm>
            <a:off x="104292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字說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投影片編號版面配置區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268-AC23-4D2D-9821-E45AB0224689}" type="slidenum">
              <a:rPr b="1" lang="en-US" sz="1200" spc="-1" strike="noStrike">
                <a:solidFill>
                  <a:srgbClr val="898989"/>
                </a:solidFill>
                <a:latin typeface="Lucida Sans"/>
              </a:rPr>
              <a:t>&lt;number&gt;</a:t>
            </a:fld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95280" y="1022400"/>
            <a:ext cx="705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照片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5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（每頁簡報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2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即可，不需拼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7"/>
          <p:cNvSpPr/>
          <p:nvPr/>
        </p:nvSpPr>
        <p:spPr>
          <a:xfrm>
            <a:off x="-36360" y="115920"/>
            <a:ext cx="6121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施概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案實施過程、師生教學互動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179280" y="1773360"/>
            <a:ext cx="8856720" cy="446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alibri"/>
              </a:rPr>
              <a:t>（請插入單位巡迴展具代表性照片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2"/>
          <p:cNvSpPr/>
          <p:nvPr/>
        </p:nvSpPr>
        <p:spPr>
          <a:xfrm>
            <a:off x="104292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字說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F8AB-62C4-4FCA-A05C-43FE053C59BA}" type="slidenum">
              <a:rPr b="1" lang="en-US" sz="1200" spc="-1" strike="noStrike">
                <a:solidFill>
                  <a:srgbClr val="898989"/>
                </a:solidFill>
                <a:latin typeface="Lucida Sans"/>
              </a:rPr>
              <a:t>&lt;number&gt;</a:t>
            </a:fld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95280" y="1022400"/>
            <a:ext cx="705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照片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5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（每頁簡報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1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2</a:t>
            </a:r>
            <a:r>
              <a:rPr b="1" lang="zh-TW" sz="24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張即可，不需拼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7"/>
          <p:cNvSpPr/>
          <p:nvPr/>
        </p:nvSpPr>
        <p:spPr>
          <a:xfrm>
            <a:off x="-36360" y="115920"/>
            <a:ext cx="6121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施概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學生作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179280" y="1773360"/>
            <a:ext cx="8856720" cy="446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alibri"/>
              </a:rPr>
              <a:t>（請插入單位巡迴展具代表性照片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字方塊 2"/>
          <p:cNvSpPr/>
          <p:nvPr/>
        </p:nvSpPr>
        <p:spPr>
          <a:xfrm>
            <a:off x="104292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字說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209080" cy="4392360"/>
        </p:xfrm>
        <a:graphic>
          <a:graphicData uri="http://schemas.openxmlformats.org/drawingml/2006/table">
            <a:tbl>
              <a:tblPr/>
              <a:tblGrid>
                <a:gridCol w="1873080"/>
                <a:gridCol w="6336000"/>
              </a:tblGrid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說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1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本次展覽效益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特色及影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簡述即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77"/>
          <p:cNvSpPr/>
          <p:nvPr/>
        </p:nvSpPr>
        <p:spPr>
          <a:xfrm>
            <a:off x="-36360" y="115920"/>
            <a:ext cx="6121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與計畫後的改變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5280" y="1413000"/>
          <a:ext cx="8209080" cy="4392360"/>
        </p:xfrm>
        <a:graphic>
          <a:graphicData uri="http://schemas.openxmlformats.org/drawingml/2006/table">
            <a:tbl>
              <a:tblPr/>
              <a:tblGrid>
                <a:gridCol w="1873080"/>
                <a:gridCol w="6336000"/>
              </a:tblGrid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說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16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建議基金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改善之處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簡述即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77"/>
          <p:cNvSpPr/>
          <p:nvPr/>
        </p:nvSpPr>
        <p:spPr>
          <a:xfrm>
            <a:off x="-36360" y="115920"/>
            <a:ext cx="6121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與計畫後的改變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95280" y="1413000"/>
          <a:ext cx="8209080" cy="4392360"/>
        </p:xfrm>
        <a:graphic>
          <a:graphicData uri="http://schemas.openxmlformats.org/drawingml/2006/table">
            <a:tbl>
              <a:tblPr/>
              <a:tblGrid>
                <a:gridCol w="1873080"/>
                <a:gridCol w="6336000"/>
              </a:tblGrid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說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16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參與時遭遇的困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7f7f7f"/>
                          </a:solidFill>
                          <a:latin typeface="微軟正黑體"/>
                          <a:ea typeface="微軟正黑體"/>
                        </a:rPr>
                        <a:t>簡述即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77"/>
          <p:cNvSpPr/>
          <p:nvPr/>
        </p:nvSpPr>
        <p:spPr>
          <a:xfrm>
            <a:off x="-36360" y="115920"/>
            <a:ext cx="6121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參與計畫後的改變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3:27:38Z</dcterms:created>
  <dc:creator>Ian</dc:creator>
  <dc:description/>
  <dc:language>en-US</dc:language>
  <cp:lastModifiedBy>user</cp:lastModifiedBy>
  <cp:lastPrinted>2018-01-17T01:18:05Z</cp:lastPrinted>
  <dcterms:modified xsi:type="dcterms:W3CDTF">2019-01-25T09:29:01Z</dcterms:modified>
  <cp:revision>1076</cp:revision>
  <dc:subject/>
  <dc:title>推廣處 Promotion Division</dc:title>
</cp:coreProperties>
</file>